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71680-5B22-4A16-ACFF-E1CE148C3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ED4A4-E69A-4842-A7FD-8CE3DFDA3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3B447-1FD2-4E2D-BD17-535AAD2CF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EEEC9-8960-4E13-9F60-9242563FF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A3DBB-B32B-4C38-AB33-3B9F87133C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748B4-B3F3-4D9B-AE14-7FD38A4C7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4C42D-E31F-401C-B7F2-A22EB6FFF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6DB65-A462-4554-867E-2C8A16DBC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3564B-CCAC-47CE-A0EF-5669CE8ED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57F62-3B02-475A-926A-829BD779E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EA257-63C3-48A3-B891-0B73C7CC2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F3946-54D6-4898-BE4B-A79FFFEEA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989F0-83B3-4943-A6E5-8307FA8A6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B4992-A6DD-4DA4-BC56-E5AB234B2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55BB5-0BF5-43B5-B5D6-C54817731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72F8E2-F12B-4146-B91D-4D564E676E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8D399-7A6E-4089-B33C-167260777C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94830-2A4C-4EB9-85F9-2E12D1D2F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C7DED-1C2E-4CC7-ABD9-7271170AC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3E125-A75B-4F3E-8EB4-3F6297138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A2CCB-A04A-4BF9-A3F6-591F1BD20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F6959-6235-4503-80FE-ECE1D6B9B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F7EB6-3336-49A2-9AFA-EC28DF4CD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0E6A1-536C-4235-86A6-981E5D162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20C6-54F9-45C0-8F25-C6A1045C1D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73E2A-2F8B-4BA7-9306-C10FCA8390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87" name=""/>
          <p:cNvSpPr/>
          <p:nvPr/>
        </p:nvSpPr>
        <p:spPr>
          <a:xfrm>
            <a:off x="0" y="92160"/>
            <a:ext cx="9144000" cy="635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Arial"/>
                <a:ea typeface="Times New Roman"/>
              </a:rPr>
              <a:t>Art 16 do Código de Mineraçã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Times New Roman"/>
              </a:rPr>
              <a:t>	</a:t>
            </a:r>
            <a:r>
              <a:rPr b="1" lang="pt-BR" sz="1800" spc="-1" strike="noStrike">
                <a:solidFill>
                  <a:srgbClr val="000000"/>
                </a:solidFill>
                <a:latin typeface="Arial"/>
                <a:ea typeface="Times New Roman"/>
              </a:rPr>
              <a:t>Art. 16.</a:t>
            </a:r>
            <a:r>
              <a:rPr b="0" lang="pt-BR" sz="1800" spc="-1" strike="noStrike">
                <a:solidFill>
                  <a:srgbClr val="000000"/>
                </a:solidFill>
                <a:latin typeface="Arial"/>
                <a:ea typeface="Times New Roman"/>
              </a:rPr>
              <a:t> A autorização de pesquisa será pleiteada em requerimento dirigido ao Diretor-Geral do DNPM, entregue mediante recibo no protocolo do DNPM, onde será mecanicamente numerado e registrado, devendo ser apresentado em duas vias e conter os seguintes elementos de instrução: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	</a:t>
            </a:r>
            <a:r>
              <a:rPr b="0" lang="pt-BR" sz="1800" spc="-1" strike="noStrike">
                <a:solidFill>
                  <a:srgbClr val="000000"/>
                </a:solidFill>
                <a:latin typeface="Arial"/>
                <a:ea typeface="Times New Roman"/>
              </a:rPr>
              <a:t>I - nome, indicação da nacionalidade, do estado civil, da profissão, do domicílio e do número de inscrição no Cadastro de Pessoas Físicas do Ministério da Fazenda, do requerente, pessoa natural. Em se tratando de pessoa jurídica, razão social, número do registro de seus atos constitutivos no Órgão de Registro de Comércio competente, endereço e número de inscrição no Cadastro Geral dos Contribuintes do Ministério da Fazenda;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	</a:t>
            </a:r>
            <a:r>
              <a:rPr b="0" lang="pt-BR" sz="1800" spc="-1" strike="noStrike">
                <a:solidFill>
                  <a:srgbClr val="000000"/>
                </a:solidFill>
                <a:latin typeface="Arial"/>
                <a:ea typeface="Times New Roman"/>
              </a:rPr>
              <a:t>II - prova de recolhimento dos respectivos emolumentos;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	</a:t>
            </a:r>
            <a:r>
              <a:rPr b="0" lang="pt-BR" sz="1800" spc="-1" strike="noStrike">
                <a:solidFill>
                  <a:srgbClr val="000000"/>
                </a:solidFill>
                <a:latin typeface="Arial"/>
                <a:ea typeface="Times New Roman"/>
              </a:rPr>
              <a:t>III - designação das substâncias a pesquisar;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	</a:t>
            </a:r>
            <a:r>
              <a:rPr b="0" lang="pt-BR" sz="1800" spc="-1" strike="noStrike">
                <a:solidFill>
                  <a:srgbClr val="000000"/>
                </a:solidFill>
                <a:latin typeface="Arial"/>
                <a:ea typeface="Times New Roman"/>
              </a:rPr>
              <a:t>IV - indicação da extensão superficial da área objetivada, em hectares, e do Município e Estado em que se situa;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	</a:t>
            </a:r>
            <a:r>
              <a:rPr b="0" lang="pt-BR" sz="1800" spc="-1" strike="noStrike">
                <a:solidFill>
                  <a:srgbClr val="000000"/>
                </a:solidFill>
                <a:latin typeface="Arial"/>
                <a:ea typeface="Times New Roman"/>
              </a:rPr>
              <a:t>V - memorial descritivo da área pretendida, nos termos a serem definidos em portaria do Diretor-Geral do DNPM;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	</a:t>
            </a:r>
            <a:r>
              <a:rPr b="0" lang="pt-BR" sz="1800" spc="-1" strike="noStrike">
                <a:solidFill>
                  <a:srgbClr val="000000"/>
                </a:solidFill>
                <a:latin typeface="Arial"/>
                <a:ea typeface="Times New Roman"/>
              </a:rPr>
              <a:t>VI - planta de situação, cuja configuração e elementos de informação serão estabelecidos em portaria do Diretor-Geral do DNPM;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	</a:t>
            </a:r>
            <a:r>
              <a:rPr b="0" lang="pt-BR" sz="1800" spc="-1" strike="noStrike">
                <a:solidFill>
                  <a:srgbClr val="000000"/>
                </a:solidFill>
                <a:latin typeface="Arial"/>
                <a:ea typeface="Times New Roman"/>
              </a:rPr>
              <a:t>VII - plano dos trabalhos de pesquisa, acompanhado do orçamento e cronograma previstos para sua execução.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ff"/>
                </a:solidFill>
                <a:latin typeface="Arial"/>
                <a:ea typeface="Times New Roman"/>
              </a:rPr>
              <a:t>	</a:t>
            </a:r>
            <a:r>
              <a:rPr b="0" lang="pt-BR" sz="1800" spc="-1" strike="noStrike">
                <a:solidFill>
                  <a:srgbClr val="0000ff"/>
                </a:solidFill>
                <a:latin typeface="Arial"/>
                <a:ea typeface="Times New Roman"/>
              </a:rPr>
              <a:t>                                                                                                                         </a:t>
            </a:r>
            <a:r>
              <a:rPr b="0" lang="pt-BR" sz="1800" spc="-1" strike="noStrike">
                <a:solidFill>
                  <a:srgbClr val="000000"/>
                </a:solidFill>
                <a:latin typeface="Wingdings"/>
                <a:ea typeface="Wingdings"/>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88" name=""/>
          <p:cNvSpPr/>
          <p:nvPr/>
        </p:nvSpPr>
        <p:spPr>
          <a:xfrm>
            <a:off x="0" y="1066680"/>
            <a:ext cx="91440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ff"/>
                </a:solidFill>
                <a:latin typeface="Arial"/>
                <a:ea typeface="Times New Roman"/>
              </a:rPr>
              <a:t>	</a:t>
            </a:r>
            <a:r>
              <a:rPr b="0" lang="pt-BR" sz="1800" spc="-1" strike="noStrike">
                <a:solidFill>
                  <a:srgbClr val="000000"/>
                </a:solidFill>
                <a:latin typeface="Arial"/>
                <a:ea typeface="Times New Roman"/>
              </a:rPr>
              <a:t>§1° O requerente e o profissional responsável poderão ser interpelados pelo DNPM para justificarem o plano de pesquisa e o orçamento correspondente referidos no inciso VII deste artigo, bem como a disponibilidade de recurs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	</a:t>
            </a:r>
            <a:r>
              <a:rPr b="0" lang="pt-BR" sz="1800" spc="-1" strike="noStrike">
                <a:solidFill>
                  <a:srgbClr val="000000"/>
                </a:solidFill>
                <a:latin typeface="Arial"/>
                <a:ea typeface="Times New Roman"/>
              </a:rPr>
              <a:t>§2° Os trabalhos descritos no plano de pesquisa servirão de base para a avaliação judicial da renda pela ocupação do solo e da indenização devida ao proprietário ou posseiro do solo, não guardando nenhuma relação com o valor do orçamento apresentado pelo interessado no referido plano de pesquisa.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	</a:t>
            </a:r>
            <a:r>
              <a:rPr b="0" lang="pt-BR" sz="1800" spc="-1" strike="noStrike">
                <a:solidFill>
                  <a:srgbClr val="000000"/>
                </a:solidFill>
                <a:latin typeface="Arial"/>
                <a:ea typeface="Times New Roman"/>
              </a:rPr>
              <a:t>§3° Os documentos a que se referem os incisos V, VI e VII deste artigo deverão ser elaborados sob a responsabilidade técnica de profissional legalmente habilitad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2T21:59:55Z</dcterms:created>
  <dc:creator>Alexandre Braule</dc:creator>
  <dc:description/>
  <dc:language>en-US</dc:language>
  <cp:lastModifiedBy>Alexandre Braule</cp:lastModifiedBy>
  <dcterms:modified xsi:type="dcterms:W3CDTF">2004-08-11T12:33:47Z</dcterms:modified>
  <cp:revision>54</cp:revision>
  <dc:subject/>
  <dc:title>Apresentação do PowerPoint</dc:title>
</cp:coreProperties>
</file>